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39A-6E03-4FB8-B9DA-DC44EBD8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BE44-77EF-4664-B57B-7B0A67FB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4BD-F147-4EFF-A3FA-3E9026F6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8CA-A0F7-428A-94E1-8F66E89D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ACB-9F19-4339-A875-AB15BE33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0A7-C0AE-41F8-9B02-CDE75BBB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E8E-44B1-4609-8B08-BF6E33D4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FED-F38B-460C-89F6-84CD7417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600-5289-46ED-8869-006D822F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7110-1F5E-4F48-BF95-5F938608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014-5B3D-4619-9A92-EA0AF55E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4D8-E7C8-4E3C-B233-4699BBA0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2E6C-D0B7-442C-ACFE-CE3AACBC6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3911" r="2082" b="20968"/>
          <a:stretch/>
        </p:blipFill>
        <p:spPr>
          <a:xfrm>
            <a:off x="-900000" y="-27000"/>
            <a:ext cx="7378560" cy="701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56360" y="333360"/>
            <a:ext cx="47530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JJStencil Solid"/>
              </a:rPr>
              <a:t>Willi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JJStencil Solid"/>
              </a:rPr>
              <a:t>keir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JJStencil Solid"/>
              </a:rPr>
              <a:t>bradl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JJStencil Solid"/>
              </a:rPr>
              <a:t>j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JJStencil Solid"/>
              </a:rPr>
              <a:t>s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JJStencil Solid"/>
              </a:rPr>
              <a:t>Ffion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JJStencil Solid"/>
              </a:rPr>
              <a:t>Ffion 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540720" cy="979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The A-Team van"/>
          <p:cNvPicPr/>
          <p:nvPr/>
        </p:nvPicPr>
        <p:blipFill>
          <a:blip r:embed="rId1"/>
          <a:stretch/>
        </p:blipFill>
        <p:spPr>
          <a:xfrm>
            <a:off x="0" y="-46080"/>
            <a:ext cx="9325080" cy="699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43280" y="452772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JJStencil Solid"/>
              </a:rPr>
              <a:t>rebec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0720" y="143208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JJStencil Solid"/>
              </a:rPr>
              <a:t>ry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4762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JJStencil Solid"/>
              </a:rPr>
              <a:t>ashle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29433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JJStencil Solid"/>
              </a:rPr>
              <a:t>beth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04000" y="568008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JJStencil Solid"/>
              </a:rPr>
              <a:t>j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4360" y="4005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JJStencil Solid"/>
              </a:rPr>
              <a:t>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1773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00"/>
                </a:solidFill>
                <a:latin typeface="JJStencil Solid"/>
              </a:rPr>
              <a:t>dan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-27000"/>
            <a:ext cx="6864480" cy="679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92280"/>
            <a:ext cx="4752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lu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hedy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tho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meg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d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lew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1549440" y="-458640"/>
            <a:ext cx="9325080" cy="745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2360" y="692280"/>
            <a:ext cx="4753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j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c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christop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e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e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elin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044720" y="-27000"/>
            <a:ext cx="9541080" cy="9793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59280" y="476280"/>
            <a:ext cx="49705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emy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soph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la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bronw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Carrie-a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JJStencil Solid"/>
              </a:rPr>
              <a:t>jaco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3911" r="2082" b="20968"/>
          <a:stretch/>
        </p:blipFill>
        <p:spPr>
          <a:xfrm>
            <a:off x="2268360" y="-27000"/>
            <a:ext cx="7378920" cy="7010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The A-Team van"/>
          <p:cNvPicPr/>
          <p:nvPr/>
        </p:nvPicPr>
        <p:blipFill>
          <a:blip r:embed="rId1"/>
          <a:stretch/>
        </p:blipFill>
        <p:spPr>
          <a:xfrm>
            <a:off x="0" y="-4608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20600" y="-27000"/>
            <a:ext cx="6864480" cy="6799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612720" y="-458640"/>
            <a:ext cx="9325080" cy="74530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2:05:25Z</dcterms:created>
  <dc:creator>Betsan Jones</dc:creator>
  <dc:description/>
  <dc:language>en-US</dc:language>
  <cp:lastModifiedBy>Betsan Jones</cp:lastModifiedBy>
  <dcterms:modified xsi:type="dcterms:W3CDTF">2009-03-08T21:53:23Z</dcterms:modified>
  <cp:revision>5</cp:revision>
  <dc:subject/>
  <dc:title>Slide 1</dc:title>
</cp:coreProperties>
</file>